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244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140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25434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467244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244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140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5434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467244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329600" y="6156360"/>
            <a:ext cx="1673280" cy="5792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050320" y="152280"/>
            <a:ext cx="1093680" cy="88128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latform &amp; Produ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75 SG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731080" y="138240"/>
            <a:ext cx="246240" cy="1872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7075440" y="152280"/>
            <a:ext cx="920880" cy="88128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Statu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6. Mar. 200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62000" y="154080"/>
            <a:ext cx="881856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329600" y="6156360"/>
            <a:ext cx="1673280" cy="5792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12560" y="35568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d2435"/>
                </a:solidFill>
                <a:latin typeface="Arial"/>
              </a:rPr>
              <a:t>SGL products</a:t>
            </a:r>
            <a:br>
              <a:rPr sz="2400"/>
            </a:br>
            <a:r>
              <a:rPr b="1" lang="en-US" sz="2400" spc="-1" strike="noStrike">
                <a:solidFill>
                  <a:srgbClr val="6d2435"/>
                </a:solidFill>
                <a:latin typeface="Arial"/>
              </a:rPr>
              <a:t>Adon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168560" y="1128600"/>
            <a:ext cx="7325640" cy="5022000"/>
            <a:chOff x="1168560" y="1128600"/>
            <a:chExt cx="7325640" cy="5022000"/>
          </a:xfrm>
        </p:grpSpPr>
        <p:sp>
          <p:nvSpPr>
            <p:cNvPr id="89" name=""/>
            <p:cNvSpPr/>
            <p:nvPr/>
          </p:nvSpPr>
          <p:spPr>
            <a:xfrm>
              <a:off x="1168560" y="1128600"/>
              <a:ext cx="7325640" cy="5022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22920" y="1128600"/>
              <a:ext cx="7249320" cy="502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197000" y="1189080"/>
            <a:ext cx="7269120" cy="50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72000" anchor="t">
            <a:spAutoFit/>
          </a:bodyPr>
          <a:p>
            <a:pPr marL="87480" indent="-874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chedule/PV/Mileston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0: 22.10.04 (</a:t>
            </a: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5.10.05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2:   29.03.05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S:  11.07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0: 29.10.04 (</a:t>
            </a: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01.11.05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25: 27.04.05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4:   11.07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1: 10.12.04 (</a:t>
            </a: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3.12.05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3:   30.05.05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3:   08.08.05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S deviation of current PV plan is 3 d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Major threa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rther delay of B1+ tape out =&gt; potential delay of 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H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+ tape out delayed by 2 days from 09.03.05 to 11.03.05  because root cause for high power consumption in talk and idle and countermeasures for self-interference and for low frequency emissions via headset have not found been fou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e to special CeBit SW preparation all bug fixes have to be copied from the stabilization branch to the normal CDB – additional unplanned effort but no effect on time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 tool parts planned to be used in B1+ were already used for B1.2 – first tests indicated good 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ototyp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HW/Major threa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69800" y="3317760"/>
            <a:ext cx="376200" cy="851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54040" y="3376440"/>
            <a:ext cx="195120" cy="20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52600" y="3641760"/>
            <a:ext cx="195120" cy="208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52600" y="3908520"/>
            <a:ext cx="195120" cy="207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CN1FZ000</cp:lastModifiedBy>
  <cp:lastPrinted>2004-02-29T14:41:19Z</cp:lastPrinted>
  <dcterms:modified xsi:type="dcterms:W3CDTF">2005-03-16T09:19:03Z</dcterms:modified>
  <cp:revision>714</cp:revision>
  <dc:subject/>
  <dc:title>PowerPoint Presentation</dc:title>
</cp:coreProperties>
</file>